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735-5842-4586-9449-7A84E082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88E-5A81-4403-B4B2-A6DCDD1A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865-AA35-4898-AFA9-AE4367C3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A1E-A915-42C5-9393-58415DBC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1A32-60AD-44D9-B51F-6887382D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34E7-295F-4046-B28B-6A0FD9B0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0EBC-E0D0-415B-BB8C-519F5CC3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E78F-2539-4D1E-80E1-541FA7AC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3040-9CCC-45E8-B7E3-258B1390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3A44-DFB9-4ADD-B41C-BC845BC9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3C57-28CA-42C4-8905-CDE4CF00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979-5C07-49CA-9C40-12BE5734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5AD9-10AF-44AF-A05E-BFDB3897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B61F-10B5-494B-97AE-4E0082C7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CA08-FFC0-402E-9C26-B48B3923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A834-65FB-41D2-A84A-76F02147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E697-6945-4B0F-AE38-724D173F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FBA-19C6-4032-A42C-0A9768DF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1E7-9705-4E8F-8C3B-2CCCB46F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252-15FF-4EE4-88B1-98B4B219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5F8-6E96-428D-BF77-FC9DA8C9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A78-55AA-4979-9CD2-AB6D0647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126-D7F5-47E9-9DC9-88BA0206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44C8-65ED-4497-A5A8-CB234724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8344-A373-4E75-B754-773581FC8C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AB4B-6DAC-4E10-BAE9-24E530173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free_graph_downloads/handygraph1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Wednesday, February 18th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component form of a vector PQ with initial point (p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, p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) and terminal point (q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, q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) i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equals &lt;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equal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 vector’s </a:t>
            </a:r>
            <a:r>
              <a:rPr b="0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magnitude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is its length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magnitude of a vector is denoted by 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|v||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magnitude of v i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||v|| =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which also equals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334120" y="2286000"/>
          <a:ext cx="30477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0"/>
                    <a:ext cx="3047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3276720" y="3716280"/>
          <a:ext cx="259056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716280"/>
                    <a:ext cx="259056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If </a:t>
            </a:r>
            <a:r>
              <a:rPr b="0" lang="en-US" sz="45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||v|| = 1, then this is called a unit vector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nd the component form and magnitude of PQ if P(3, -5) and   Q(-2, 7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Page 453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#3-13</a:t>
            </a:r>
            <a:endParaRPr b="0" lang="en-US" sz="7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et back tes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ecff"/>
                </a:solidFill>
                <a:latin typeface="Arial"/>
              </a:rPr>
              <a:t>Lesson 6.3</a:t>
            </a:r>
            <a:br>
              <a:rPr sz="8500"/>
            </a:br>
            <a:r>
              <a:rPr b="0" lang="en-US" sz="8500" spc="-1" strike="noStrike">
                <a:solidFill>
                  <a:srgbClr val="ccecff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Vector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Quantities that possess two characteristics: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Direction and Magnitud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ectors are usually visualized as a directed line segment or ray on a coordinate plan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ts direction goes from an initial point to a terminal poi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vector is in “standard position” if its initial point is at the origi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219320"/>
            <a:ext cx="44924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2:52:43Z</dcterms:created>
  <dc:creator>jnewman</dc:creator>
  <dc:description/>
  <dc:language>en-US</dc:language>
  <cp:lastModifiedBy>abeason</cp:lastModifiedBy>
  <dcterms:modified xsi:type="dcterms:W3CDTF">2009-02-18T14:08:52Z</dcterms:modified>
  <cp:revision>5</cp:revision>
  <dc:subject/>
  <dc:title>Lesson 6.3 part one</dc:title>
</cp:coreProperties>
</file>